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FECF-B666-4C09-8F1E-34DF725F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16DE-7BBD-42D8-B1A6-96DBDBE7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91FA-4DC5-4B74-ABA8-2E03B319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D8D5-4BCA-4CB5-A0ED-F69E6B6C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0EC-D0C7-4348-8883-D52F0346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519D-2B05-44A0-9E3E-9FFF608D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0237-4CBA-4BA9-8499-E25311C5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7A42-B349-4BA0-B626-486AD6ED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032-A056-42E8-A602-7D9BA679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F8C-E276-47FF-9E95-72B387FC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9D97-C0A4-42BF-B88B-7F3E2E8B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AAD2-B283-4982-B7BF-E0D2523E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D0D8-9CC7-4FAD-A12A-3F016A7CA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da.gov.uk/teachers/induction.aspx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es.co.uk/searchResults.aspx?area=all&amp;keywords=nqts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arkfieldict.co.uk/ictcompanion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reesoftwareforstudents.org.uk/index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es.co.uk/download.aspx?storycode=6024972&amp;type=W&amp;id=3029483" TargetMode="External"/><Relationship Id="rId2" Type="http://schemas.openxmlformats.org/officeDocument/2006/relationships/hyperlink" Target="http://www.tes.co.uk/download.aspx?storycode=6024972&amp;type=W&amp;id=3029484" TargetMode="External"/><Relationship Id="rId3" Type="http://schemas.openxmlformats.org/officeDocument/2006/relationships/hyperlink" Target="http://www.tes.co.uk/download.aspx?storycode=6024972&amp;type=W&amp;id=3029485" TargetMode="External"/><Relationship Id="rId4" Type="http://schemas.openxmlformats.org/officeDocument/2006/relationships/hyperlink" Target="http://www.tes.co.uk/download.aspx?storycode=6024972&amp;type=W&amp;id=3029486" TargetMode="External"/><Relationship Id="rId5" Type="http://schemas.openxmlformats.org/officeDocument/2006/relationships/hyperlink" Target="http://www.tes.co.uk/download.aspx?storycode=6024972&amp;type=W&amp;id=3029487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i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o reflect on the first ½ term – what’s worked and hasn'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Look at useful web sites and share goo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ikispaces for NQ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Moo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ome Ideas….gam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ustomising SOW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gress in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-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ny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03280" y="404640"/>
            <a:ext cx="5905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QTs IC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gfl-cymru.org.uk/eng/vtc-home/vtc-aas-home/vtc-as_a-ic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6250" t="11788" r="4496" b="5508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10624" t="13929" r="5120" b="6335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71640" y="259920"/>
            <a:ext cx="51940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teachict.co.u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ty.wikispaces.com/ks3i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1285" t="12586" r="4965" b="6684"/>
          <a:stretch/>
        </p:blipFill>
        <p:spPr>
          <a:xfrm>
            <a:off x="0" y="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3127" t="13585" r="3127" b="76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050920" y="595008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da.gov.uk/teachers/induction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539" t="11611" r="3127" b="5710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6353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r82bgeeky.co.uk/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3127" t="14564" r="9391" b="7683"/>
          <a:stretch/>
        </p:blipFill>
        <p:spPr>
          <a:xfrm>
            <a:off x="0" y="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oin 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609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es.co.uk/searchResults.aspx?area=all&amp;keywords=nq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3127" t="11611" r="3127" b="5710"/>
          <a:stretch/>
        </p:blipFill>
        <p:spPr>
          <a:xfrm>
            <a:off x="0" y="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566100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arkfieldict.co.uk/ictcompanio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12586" r="6984" b="7683"/>
          <a:stretch/>
        </p:blipFill>
        <p:spPr>
          <a:xfrm>
            <a:off x="324000" y="476280"/>
            <a:ext cx="784836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freesoftwareforstudents.org.uk/index.htm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4965" t="12586" r="4965" b="6684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ames 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hat2learn.com/games/play/16935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what2learn.com/games/play/16935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bp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hat2learn.com/games/play/16937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what2learn.com/games/play/16937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bp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what2learn.com/games/play/16938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what2learn.com/games/play/16938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bp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what2learn.com/games/play/16939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what2learn.com/games/play/16939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bp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what2learn.com/games/play/16940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what2learn.com/games/play/16940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bp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602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ictgoodies.com/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13585" r="5696" b="9637"/>
          <a:stretch/>
        </p:blipFill>
        <p:spPr>
          <a:xfrm>
            <a:off x="-54000" y="0"/>
            <a:ext cx="9198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270" t="13585" r="6445" b="6079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566100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erngrid.org/ngflwebsite/sennew/teacher_resources/ict/ic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6:37:32Z</dcterms:created>
  <dc:creator>Thomas</dc:creator>
  <dc:description/>
  <dc:language>en-US</dc:language>
  <cp:lastModifiedBy> </cp:lastModifiedBy>
  <dcterms:modified xsi:type="dcterms:W3CDTF">2009-10-23T07:50:14Z</dcterms:modified>
  <cp:revision>11</cp:revision>
  <dc:subject/>
  <dc:title>Slide 1</dc:title>
</cp:coreProperties>
</file>